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6B4-8FC5-4E55-9BC4-71C1F40E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469-C1E1-4F71-933B-D592827E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79CA-5196-4934-93B3-E00F37A9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DFD-E292-4FA7-A5B1-19DA11C9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off each number to the nearest whole number: 6.7 to 7, 4.2 to 4. Then multiply the two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F6DC-A47A-476B-A28D-660BF150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D28-EA83-4E83-9D35-E990D32B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45E9-E8D7-4B9A-9392-8927F55A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6BE-40E9-4095-8551-1DA340F9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060-DE4C-4DDC-A98C-BFB751A1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387-7AC8-42D8-B8A0-9E26F2AB2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C96-9EBC-4895-8BB5-E4B4DBF3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C2CE-745E-4CD1-9875-CBA23BB71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B4F-B288-4BA1-947E-50723C5F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14A-14A0-4013-8299-D0608FEB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DB6-CBD6-4ECB-A094-A799921C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E22-8598-4629-9497-D2FDFDA4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701C-DAD1-46F4-8956-83B7B5A5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59D9-25B5-43F5-A564-42C80181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388-C443-4F0B-9D19-2BB8E756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873-383E-4F14-9F1C-158374D0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E68-3C62-438A-BE6F-1D4E9F8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835-91B0-4A0E-910B-1336CCC2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1F4-DE8B-4C61-9B8E-50AC3A1C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C21-D48A-4732-8C62-F802474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14A-2300-49DE-A7DD-B7536029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6E8-5AD8-43CB-8F54-74C15A2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808-20ED-47AD-AFB8-5E050E1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716-491A-43E3-BFA1-8A925317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30F-7175-4F71-9A47-5D21BD7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002-DA1C-4DF2-8148-7EC1E1A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508-0741-46B0-A428-B74B8DB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562-DDDC-4888-AE31-FEF81FE31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http://rds.yahoo.com/_ylt=A0WTb_hocvBHsVMBPpejzbkF/SIG=126bgqhnu/EXP=1207026664/**http%3A/www.frightcatalog.com/i/360x360/1014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cu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gles does the triangl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number22baseline"/>
          <p:cNvPicPr/>
          <p:nvPr/>
        </p:nvPicPr>
        <p:blipFill>
          <a:blip r:embed="rId1"/>
          <a:stretch/>
        </p:blipFill>
        <p:spPr>
          <a:xfrm>
            <a:off x="838080" y="1828800"/>
            <a:ext cx="2419560" cy="34765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1814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81480" y="3429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18148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380880" y="56386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cute angle -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3581280" y="5410080"/>
            <a:ext cx="5181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 angle with a measure between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0 degrees and 90 degree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0" name="AutoShape 11"/>
          <p:cNvSpPr/>
          <p:nvPr/>
        </p:nvSpPr>
        <p:spPr>
          <a:xfrm rot="821400">
            <a:off x="533160" y="21337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 rot="534600">
            <a:off x="151920" y="2971800"/>
            <a:ext cx="12906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cut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AutoShape 13"/>
          <p:cNvSpPr/>
          <p:nvPr/>
        </p:nvSpPr>
        <p:spPr>
          <a:xfrm rot="5173800">
            <a:off x="2286000" y="457200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4"/>
          <p:cNvSpPr txBox="1"/>
          <p:nvPr/>
        </p:nvSpPr>
        <p:spPr>
          <a:xfrm rot="21361200">
            <a:off x="685440" y="4800600"/>
            <a:ext cx="12906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cut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4" name="AutoShape 15"/>
          <p:cNvSpPr/>
          <p:nvPr/>
        </p:nvSpPr>
        <p:spPr>
          <a:xfrm rot="18512400">
            <a:off x="2895480" y="213336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2971800" y="3048120"/>
            <a:ext cx="1290600" cy="42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obtus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3048120" y="35053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F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228600" y="35053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761400"/>
            <a:ext cx="156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 estimate i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e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7 ×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371600" y="168408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06520" y="1684080"/>
            <a:ext cx="11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502880" y="1684080"/>
            <a:ext cx="136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095880" y="1684080"/>
            <a:ext cx="141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095880" y="3581280"/>
            <a:ext cx="1552680" cy="1447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04920" y="5118120"/>
            <a:ext cx="8245440" cy="1739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nd off each number to the nearest whole number. Then multiply the two numb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ctangle 10" descr=""/>
          <p:cNvPicPr/>
          <p:nvPr/>
        </p:nvPicPr>
        <p:blipFill>
          <a:blip r:embed="rId1"/>
          <a:stretch/>
        </p:blipFill>
        <p:spPr>
          <a:xfrm>
            <a:off x="6267600" y="-219240"/>
            <a:ext cx="2979720" cy="1146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6095880" y="1684080"/>
            <a:ext cx="141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38080" y="13716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96252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590920" y="4038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486400" y="4343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876920" y="25146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ia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52880" y="2895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029200" y="3352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029200" y="3809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 students sai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m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80880" y="140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labeled part of the circle at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09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094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3200400" y="4572000"/>
            <a:ext cx="1981080" cy="18288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276720" y="5715000"/>
            <a:ext cx="1752480" cy="15228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equation below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76720" y="9907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094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05520" y="3809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2920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0292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029200" y="2514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said: 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5"/>
          <p:cNvCxnSpPr>
            <a:stCxn id="185" idx="0"/>
          </p:cNvCxnSpPr>
          <p:nvPr/>
        </p:nvCxnSpPr>
        <p:spPr>
          <a:xfrm flipH="1" flipV="1">
            <a:off x="4344480" y="1599840"/>
            <a:ext cx="37440" cy="327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Rectangle 16"/>
          <p:cNvSpPr/>
          <p:nvPr/>
        </p:nvSpPr>
        <p:spPr>
          <a:xfrm>
            <a:off x="2286000" y="4876920"/>
            <a:ext cx="419112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n the variable is next to the number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you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MULTIPL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two of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= 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n what is the value 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10 –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901960" y="1401840"/>
            <a:ext cx="3876840" cy="115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6094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0948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0948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105520" y="4191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10552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0552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10552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udent rea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12 words in 4 minu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How man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ords per minu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he r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094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094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094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0948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105520" y="4191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5105520" y="563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510552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10552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extremefunnyhumor.com/pics/double_school_bus.jpg"/>
          <p:cNvPicPr/>
          <p:nvPr/>
        </p:nvPicPr>
        <p:blipFill>
          <a:blip r:embed="rId1"/>
          <a:srcRect l="0" t="3269" r="0" b="0"/>
          <a:stretch/>
        </p:blipFill>
        <p:spPr>
          <a:xfrm>
            <a:off x="457200" y="3425760"/>
            <a:ext cx="4267080" cy="343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al went on a bus trip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:46 a.m.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 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:12 p.m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long was the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52578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257800" y="4343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257800" y="4800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257800" y="5715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200" y="3886200"/>
            <a:ext cx="4343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4 hours and 3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57200" y="464832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 hours and 3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57200" y="548640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4 hours and 26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7200" y="6248520"/>
            <a:ext cx="426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 hours and 26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st shows temperatures above and below freezing in order from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mperatur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71500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715000" y="502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715000" y="548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5715000" y="5943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www.kidsgeo.com/images/freezing-rain.jpg"/>
          <p:cNvPicPr/>
          <p:nvPr/>
        </p:nvPicPr>
        <p:blipFill>
          <a:blip r:embed="rId1"/>
          <a:stretch/>
        </p:blipFill>
        <p:spPr>
          <a:xfrm>
            <a:off x="0" y="2895480"/>
            <a:ext cx="5410080" cy="3962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0" y="320040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09°F, 107°F, -66°F, -68°F, -105°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0" y="41911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.)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-105°F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-68°F, -66°F, 107°F, 109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0" y="51055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09°F, 107°F, -105°F, -68°F, -6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0" y="6019920"/>
            <a:ext cx="541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.)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-105°F, 107°F, 109°F, -66°F, -68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 Hope That You Had Fun!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Good Luck on the P.S.S.A.’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2057400" y="1905120"/>
            <a:ext cx="7848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y your best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Remember, this is our  SUPERBOW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irregulartimes.com/superbowl.jpg"/>
          <p:cNvPicPr/>
          <p:nvPr/>
        </p:nvPicPr>
        <p:blipFill>
          <a:blip r:embed="rId1"/>
          <a:stretch/>
        </p:blipFill>
        <p:spPr>
          <a:xfrm>
            <a:off x="0" y="3962520"/>
            <a:ext cx="305748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2"/>
          <a:stretch/>
        </p:blipFill>
        <p:spPr>
          <a:xfrm>
            <a:off x="3255840" y="4748040"/>
            <a:ext cx="1444680" cy="118908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5" descr=""/>
          <p:cNvPicPr/>
          <p:nvPr/>
        </p:nvPicPr>
        <p:blipFill>
          <a:blip r:embed="rId3"/>
          <a:stretch/>
        </p:blipFill>
        <p:spPr>
          <a:xfrm>
            <a:off x="3790800" y="4668840"/>
            <a:ext cx="1446480" cy="119556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6" descr=""/>
          <p:cNvPicPr/>
          <p:nvPr/>
        </p:nvPicPr>
        <p:blipFill>
          <a:blip r:embed="rId4"/>
          <a:stretch/>
        </p:blipFill>
        <p:spPr>
          <a:xfrm>
            <a:off x="4400640" y="4668840"/>
            <a:ext cx="1446120" cy="119556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7" descr=""/>
          <p:cNvPicPr/>
          <p:nvPr/>
        </p:nvPicPr>
        <p:blipFill>
          <a:blip r:embed="rId5"/>
          <a:stretch/>
        </p:blipFill>
        <p:spPr>
          <a:xfrm>
            <a:off x="5175360" y="5126040"/>
            <a:ext cx="1457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Welcome to Mr. Brennan’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ltimate PSSA Challe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:\East Pic Word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:\primarydoors.jpg"/>
          <p:cNvPicPr/>
          <p:nvPr/>
        </p:nvPicPr>
        <p:blipFill>
          <a:blip r:embed="rId1"/>
          <a:stretch/>
        </p:blipFill>
        <p:spPr>
          <a:xfrm>
            <a:off x="0" y="1260360"/>
            <a:ext cx="914400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gradFill rotWithShape="0">
            <a:gsLst>
              <a:gs pos="0">
                <a:srgbClr val="698285"/>
              </a:gs>
              <a:gs pos="100000">
                <a:srgbClr val="b7e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 know that your teachers have been flooding you with preparation late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L:\Front River copy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L:\bottomwing.jpg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531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:\Cars river copy.jpg"/>
          <p:cNvPicPr/>
          <p:nvPr/>
        </p:nvPicPr>
        <p:blipFill>
          <a:blip r:embed="rId4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So this should have been 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LAM DUNK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for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Users\userpc\Desktop\School Stuff - PAUL\Darrell2 copy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adi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e cir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iameterof8Inches_2e"/>
          <p:cNvPicPr/>
          <p:nvPr/>
        </p:nvPicPr>
        <p:blipFill>
          <a:blip r:embed="rId1"/>
          <a:stretch/>
        </p:blipFill>
        <p:spPr>
          <a:xfrm>
            <a:off x="762120" y="1981080"/>
            <a:ext cx="3895560" cy="345456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1295280" y="35812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iamet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5029200" y="182880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029200" y="2438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029200" y="2895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029200" y="3352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1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2920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1295280" y="3048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diu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304920" y="5715000"/>
            <a:ext cx="1676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adiu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2286000" y="5867280"/>
            <a:ext cx="624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s half of the Diamet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ypoten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right triangle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ypotenuseXYZ_2e"/>
          <p:cNvPicPr/>
          <p:nvPr/>
        </p:nvPicPr>
        <p:blipFill>
          <a:blip r:embed="rId1"/>
          <a:stretch/>
        </p:blipFill>
        <p:spPr>
          <a:xfrm>
            <a:off x="4191120" y="1752480"/>
            <a:ext cx="4572000" cy="3537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 rot="19485000">
            <a:off x="3962160" y="3047760"/>
            <a:ext cx="471960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potenus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380880" y="1828800"/>
            <a:ext cx="335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04920" y="2286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4920" y="2819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04920" y="33526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de 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920" y="3886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de X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228600" y="51055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ypotenuse -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8" name="WordArt 11"/>
          <p:cNvSpPr txBox="1"/>
          <p:nvPr/>
        </p:nvSpPr>
        <p:spPr>
          <a:xfrm>
            <a:off x="228600" y="57913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ide of a right triangle opposite the right angle.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hich day was there the greates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amounts of time Yao and Lu spent on thei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number19baseline"/>
          <p:cNvPicPr/>
          <p:nvPr/>
        </p:nvPicPr>
        <p:blipFill>
          <a:blip r:embed="rId1"/>
          <a:stretch/>
        </p:blipFill>
        <p:spPr>
          <a:xfrm>
            <a:off x="0" y="16765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5410080" y="1981080"/>
            <a:ext cx="335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8148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81480" y="34290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181480" y="3809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380880" y="5638680"/>
            <a:ext cx="312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fference =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3581280" y="5410080"/>
            <a:ext cx="5181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amount by which one quantity i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reater or less than another.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2819520" y="25909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2514600" y="228600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Even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2590920" y="3657600"/>
            <a:ext cx="685800" cy="76212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2743200" y="3657600"/>
            <a:ext cx="457200" cy="838080"/>
          </a:xfrm>
          <a:prstGeom prst="line">
            <a:avLst/>
          </a:prstGeom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1143000" y="28195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WordArt 16"/>
          <p:cNvSpPr txBox="1"/>
          <p:nvPr/>
        </p:nvSpPr>
        <p:spPr>
          <a:xfrm>
            <a:off x="1752480" y="3657600"/>
            <a:ext cx="381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WordArt 17"/>
          <p:cNvSpPr txBox="1"/>
          <p:nvPr/>
        </p:nvSpPr>
        <p:spPr>
          <a:xfrm>
            <a:off x="3657600" y="342900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4648320" y="419112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0.5</a:t>
            </a:r>
            <a:endParaRPr b="0" lang="en-US" sz="12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2440" y="4724280"/>
            <a:ext cx="1155600" cy="8636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8" h="544">
                <a:moveTo>
                  <a:pt x="376" y="48"/>
                </a:moveTo>
                <a:cubicBezTo>
                  <a:pt x="228" y="64"/>
                  <a:pt x="80" y="80"/>
                  <a:pt x="40" y="144"/>
                </a:cubicBezTo>
                <a:cubicBezTo>
                  <a:pt x="0" y="208"/>
                  <a:pt x="56" y="368"/>
                  <a:pt x="136" y="432"/>
                </a:cubicBezTo>
                <a:cubicBezTo>
                  <a:pt x="216" y="496"/>
                  <a:pt x="424" y="544"/>
                  <a:pt x="520" y="528"/>
                </a:cubicBezTo>
                <a:cubicBezTo>
                  <a:pt x="616" y="512"/>
                  <a:pt x="696" y="416"/>
                  <a:pt x="712" y="336"/>
                </a:cubicBezTo>
                <a:cubicBezTo>
                  <a:pt x="728" y="256"/>
                  <a:pt x="704" y="96"/>
                  <a:pt x="616" y="48"/>
                </a:cubicBezTo>
                <a:cubicBezTo>
                  <a:pt x="528" y="0"/>
                  <a:pt x="264" y="48"/>
                  <a:pt x="184" y="48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easurement of angle V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number15baseline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18148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105520" y="2971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181480" y="3429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181480" y="3886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514600" y="5334120"/>
            <a:ext cx="228600" cy="304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1905120" y="1905120"/>
            <a:ext cx="685800" cy="3429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2743200" y="5486400"/>
            <a:ext cx="2514600" cy="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762120" y="6019920"/>
            <a:ext cx="10666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ertex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1523880" y="5562720"/>
            <a:ext cx="91440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4191120" y="5638680"/>
            <a:ext cx="0" cy="9907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5"/>
          <p:cNvSpPr txBox="1"/>
          <p:nvPr/>
        </p:nvSpPr>
        <p:spPr>
          <a:xfrm rot="2736600">
            <a:off x="2179800" y="3597840"/>
            <a:ext cx="27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btuse angle</a:t>
            </a:r>
            <a:endParaRPr b="0" lang="en-US" sz="1200" spc="1" strike="noStrike">
              <a:ln w="316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4952880" y="3581280"/>
            <a:ext cx="36576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4952880" y="4038480"/>
            <a:ext cx="36576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east commo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ultipl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LCM) of 9 and 12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4876920" y="198108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Here's what we said!</a:t>
            </a:r>
            <a:endParaRPr b="0" lang="en-US" sz="1200" spc="1" strike="noStrike">
              <a:ln w="2232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257800" y="2514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257800" y="30481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257800" y="3581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257800" y="41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 students sai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094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094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094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228600" y="56386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ast common multiple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13"/>
          <p:cNvSpPr txBox="1"/>
          <p:nvPr/>
        </p:nvSpPr>
        <p:spPr>
          <a:xfrm>
            <a:off x="3581280" y="4800600"/>
            <a:ext cx="5181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mallest quantity that is divisible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y 2 or more given quantities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2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ith out a remainder</a:t>
            </a:r>
            <a:endParaRPr b="0" lang="en-US" sz="12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5" name="Picture 14" descr="lcm"/>
          <p:cNvPicPr/>
          <p:nvPr/>
        </p:nvPicPr>
        <p:blipFill>
          <a:blip r:embed="rId1"/>
          <a:stretch/>
        </p:blipFill>
        <p:spPr>
          <a:xfrm>
            <a:off x="-1219320" y="1143000"/>
            <a:ext cx="1143000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304920" y="586728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52280" y="5867280"/>
            <a:ext cx="891540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you can see on this number line, the first time the multiples match up is 1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swer: 1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7"/>
          <p:cNvSpPr txBox="1"/>
          <p:nvPr/>
        </p:nvSpPr>
        <p:spPr>
          <a:xfrm>
            <a:off x="1905120" y="47242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9, 18, 27, 36, 45, 54</a:t>
            </a:r>
            <a:endParaRPr b="0" lang="en-US" sz="12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1905120" y="56386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2, 24, 36, 48, 60, 72</a:t>
            </a:r>
            <a:endParaRPr b="0" lang="en-US" sz="12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2971800" y="4572000"/>
            <a:ext cx="1521000" cy="166860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958" h="1051">
                <a:moveTo>
                  <a:pt x="596" y="68"/>
                </a:moveTo>
                <a:cubicBezTo>
                  <a:pt x="546" y="75"/>
                  <a:pt x="499" y="84"/>
                  <a:pt x="450" y="97"/>
                </a:cubicBezTo>
                <a:cubicBezTo>
                  <a:pt x="443" y="107"/>
                  <a:pt x="431" y="115"/>
                  <a:pt x="430" y="127"/>
                </a:cubicBezTo>
                <a:cubicBezTo>
                  <a:pt x="398" y="674"/>
                  <a:pt x="588" y="588"/>
                  <a:pt x="186" y="605"/>
                </a:cubicBezTo>
                <a:cubicBezTo>
                  <a:pt x="160" y="608"/>
                  <a:pt x="132" y="605"/>
                  <a:pt x="108" y="615"/>
                </a:cubicBezTo>
                <a:cubicBezTo>
                  <a:pt x="97" y="619"/>
                  <a:pt x="96" y="635"/>
                  <a:pt x="89" y="644"/>
                </a:cubicBezTo>
                <a:cubicBezTo>
                  <a:pt x="46" y="695"/>
                  <a:pt x="31" y="726"/>
                  <a:pt x="11" y="790"/>
                </a:cubicBezTo>
                <a:cubicBezTo>
                  <a:pt x="17" y="883"/>
                  <a:pt x="0" y="953"/>
                  <a:pt x="79" y="1005"/>
                </a:cubicBezTo>
                <a:cubicBezTo>
                  <a:pt x="242" y="1002"/>
                  <a:pt x="414" y="1051"/>
                  <a:pt x="567" y="995"/>
                </a:cubicBezTo>
                <a:cubicBezTo>
                  <a:pt x="619" y="976"/>
                  <a:pt x="557" y="884"/>
                  <a:pt x="557" y="829"/>
                </a:cubicBezTo>
                <a:cubicBezTo>
                  <a:pt x="557" y="601"/>
                  <a:pt x="507" y="646"/>
                  <a:pt x="596" y="585"/>
                </a:cubicBezTo>
                <a:cubicBezTo>
                  <a:pt x="630" y="488"/>
                  <a:pt x="846" y="539"/>
                  <a:pt x="889" y="537"/>
                </a:cubicBezTo>
                <a:cubicBezTo>
                  <a:pt x="958" y="491"/>
                  <a:pt x="940" y="466"/>
                  <a:pt x="948" y="371"/>
                </a:cubicBezTo>
                <a:cubicBezTo>
                  <a:pt x="945" y="309"/>
                  <a:pt x="946" y="247"/>
                  <a:pt x="938" y="185"/>
                </a:cubicBezTo>
                <a:cubicBezTo>
                  <a:pt x="935" y="160"/>
                  <a:pt x="844" y="116"/>
                  <a:pt x="831" y="107"/>
                </a:cubicBezTo>
                <a:cubicBezTo>
                  <a:pt x="775" y="69"/>
                  <a:pt x="708" y="60"/>
                  <a:pt x="645" y="39"/>
                </a:cubicBezTo>
                <a:cubicBezTo>
                  <a:pt x="609" y="27"/>
                  <a:pt x="558" y="0"/>
                  <a:pt x="518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11:14Z</dcterms:created>
  <dc:creator>pbrennan</dc:creator>
  <dc:description/>
  <dc:language>en-US</dc:language>
  <cp:lastModifiedBy>LK</cp:lastModifiedBy>
  <dcterms:modified xsi:type="dcterms:W3CDTF">2011-02-24T13:19:19Z</dcterms:modified>
  <cp:revision>14</cp:revision>
  <dc:subject/>
  <dc:title>Slide 1</dc:title>
</cp:coreProperties>
</file>